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5B1-E322-4B90-80E7-77EBBC2F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DD4-D444-4A78-ACAB-F8457F51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695-A493-4122-AD18-649BEDAD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E30-74A7-4021-89DA-5AEF4079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17B8-9587-4EDB-9590-8E152B02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9A4E-0756-42DE-8C68-A68225EE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04F1-7D1B-425D-A63A-F3F754D7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D025-B7D4-40B5-AD0F-1A0AA5CD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1401-7881-40A3-958D-11E10C5E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5A16-FD3E-43B4-94C7-820A61AF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E986-40D2-4862-AA46-D1C6EC5F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E62-25DF-4E7E-8B7E-C83779AC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C8A8-56D0-4A09-972A-C72B678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5F80-D11A-4080-A959-FB1A31F1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9B9C-5DA5-41A9-91A8-5879F79E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BD36-09FB-41BC-9902-69D1FFFB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7279-ADF0-4C5B-BAA2-FE37C1FE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A26-BB2C-4996-821C-2C8F5271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D4D-F868-46F5-929F-F97DCECC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37F-0F25-4163-9A28-7874888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13F-0A17-4E6E-B8FE-54707BBF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0AC-4BF2-450D-9C2C-AD6ECA24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912-5E8E-4738-B818-B8BA206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15C-9388-4CCE-AFB5-40330697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8272F-AB49-4DA9-A6B3-E3317A061405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CA8E6-B0F2-4465-ADE2-A6E73D2634E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1C90C-B16E-49E1-8BA9-F84031DCBA91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04EAC-24D2-4934-BEF6-BBFAD342870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apter 3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logy Part 1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Biology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Cobb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wo Types of Cel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ukaryotic Cell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as a membrane bound nucleus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embrane bound organelles in the cytoplasm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rganelles -  a structure that performs special functions in the cell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karyotic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acteria and Blue-green alga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ack a membrane around nucleus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tains only non-membrane bound organell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366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parates the cell from the environm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gulates what comes in and out of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tains lipids, because lipids do not dissolve in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spholipids in a lipid bilay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mbrane proteins throughout the membrane with different func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8" name="Content Placeholder 3" descr="plasmamembrane3.jpg"/>
          <p:cNvPicPr/>
          <p:nvPr/>
        </p:nvPicPr>
        <p:blipFill>
          <a:blip r:embed="rId2"/>
          <a:srcRect l="-14756" t="0" r="-14756" b="0"/>
          <a:stretch/>
        </p:blipFill>
        <p:spPr>
          <a:xfrm>
            <a:off x="1828800" y="1444680"/>
            <a:ext cx="4803840" cy="2593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plasmamembranefigure1.jpg"/>
          <p:cNvPicPr/>
          <p:nvPr/>
        </p:nvPicPr>
        <p:blipFill>
          <a:blip r:embed="rId3"/>
          <a:stretch/>
        </p:blipFill>
        <p:spPr>
          <a:xfrm>
            <a:off x="1295280" y="4100400"/>
            <a:ext cx="50799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Content Placeholder 3" descr="Plasma_Membrane_Quiz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-592200" y="1444680"/>
            <a:ext cx="973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ly in plant cells outside the plasma membra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of cellulose and rigi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of th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rim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cond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s pores for transport and commun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Content Placeholder 3" descr="zonata_3.jpg"/>
          <p:cNvPicPr/>
          <p:nvPr/>
        </p:nvPicPr>
        <p:blipFill>
          <a:blip r:embed="rId2"/>
          <a:srcRect l="-19363" t="0" r="-19363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Content Placeholder 3" descr="cell_wall-13227.jpg"/>
          <p:cNvPicPr/>
          <p:nvPr/>
        </p:nvPicPr>
        <p:blipFill>
          <a:blip r:embed="rId2"/>
          <a:srcRect l="-25560" t="0" r="-2556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plas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verything inside the cell except the nucle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ytoplasmic streaming is moving the organelles around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owerhouse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an shap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urn chemical energy in sugar into usable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wo membran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istae – inner membrane with many folds for more surface area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their own DNA (directly from maternal lineage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3" name="Content Placeholder 3" descr="images.jpg"/>
          <p:cNvPicPr/>
          <p:nvPr/>
        </p:nvPicPr>
        <p:blipFill>
          <a:blip r:embed="rId2"/>
          <a:srcRect l="-45511" t="0" r="-45511" b="0"/>
          <a:stretch/>
        </p:blipFill>
        <p:spPr>
          <a:xfrm>
            <a:off x="-1752480" y="16002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mages -1.jpg"/>
          <p:cNvPicPr/>
          <p:nvPr/>
        </p:nvPicPr>
        <p:blipFill>
          <a:blip r:embed="rId3"/>
          <a:stretch/>
        </p:blipFill>
        <p:spPr>
          <a:xfrm>
            <a:off x="4950000" y="2481120"/>
            <a:ext cx="3889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lo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study of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rst observed and noted by Robert Hooke in 1665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rk cell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Named cells because it looked like rooms in a monaster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7" name="Picture 3" descr="robert hooke.jpg"/>
          <p:cNvPicPr/>
          <p:nvPr/>
        </p:nvPicPr>
        <p:blipFill>
          <a:blip r:embed="rId2"/>
          <a:stretch/>
        </p:blipFill>
        <p:spPr>
          <a:xfrm>
            <a:off x="2971800" y="2730600"/>
            <a:ext cx="184140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ookecork.jpg"/>
          <p:cNvPicPr/>
          <p:nvPr/>
        </p:nvPicPr>
        <p:blipFill>
          <a:blip r:embed="rId3"/>
          <a:stretch/>
        </p:blipFill>
        <p:spPr>
          <a:xfrm>
            <a:off x="5372280" y="2730600"/>
            <a:ext cx="21175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6" name="Content Placeholder 3" descr="mitmor4.jpg"/>
          <p:cNvPicPr/>
          <p:nvPr/>
        </p:nvPicPr>
        <p:blipFill>
          <a:blip r:embed="rId2"/>
          <a:srcRect l="-12666" t="0" r="-12666" b="0"/>
          <a:stretch/>
        </p:blipFill>
        <p:spPr>
          <a:xfrm>
            <a:off x="-380880" y="1600200"/>
            <a:ext cx="5502240" cy="346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Mitochondria simple structure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ibosom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-membrane bound organelle found in prokaryotes and Eukaryo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d to make protei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ee floating or on the 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of 2 parts (we will discuss this later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plasmic Reticulum (ER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round the nucle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ugh ER has ribosomes on it, smooth ER does no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ugh ER produces protei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ooth ER produces lipids and hormon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plasmic Reticulu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3" name="Content Placeholder 3" descr="2820694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ough 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5" name="Content Placeholder 3" descr="rough_er-em.gif"/>
          <p:cNvPicPr/>
          <p:nvPr/>
        </p:nvPicPr>
        <p:blipFill>
          <a:blip r:embed="rId2"/>
          <a:srcRect l="-29852" t="0" r="-29852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nal processing and packaging of produced compound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PS of the cell, packaging compounds into sac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 Bod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9" name="Content Placeholder 3" descr="golgi6.jpg"/>
          <p:cNvPicPr/>
          <p:nvPr/>
        </p:nvPicPr>
        <p:blipFill>
          <a:blip r:embed="rId2"/>
          <a:srcRect l="-9844" t="0" r="-9844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 Bod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1" name="Content Placeholder 3" descr="golgi_2.jpg"/>
          <p:cNvPicPr/>
          <p:nvPr/>
        </p:nvPicPr>
        <p:blipFill>
          <a:blip r:embed="rId2"/>
          <a:srcRect l="-23510" t="0" r="-2351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ysosom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does “lys” mean?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ys means to break dow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reak down invaders, food, old cell componen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ny fibers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ap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eng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ve structures around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iginal Microscop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0" name="Content Placeholder 3" descr="hookemicro.gif"/>
          <p:cNvPicPr/>
          <p:nvPr/>
        </p:nvPicPr>
        <p:blipFill>
          <a:blip r:embed="rId2"/>
          <a:srcRect l="-46735" t="0" r="-4673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8" name="Picture 3" descr="http://www.ccs.k12.in.us/chsBS/kons/kons/eukaryotic%20cell/cytoplasm_and_its_associated_str_files/image029.jpg"/>
          <p:cNvPicPr/>
          <p:nvPr/>
        </p:nvPicPr>
        <p:blipFill>
          <a:blip r:embed="rId2"/>
          <a:stretch/>
        </p:blipFill>
        <p:spPr>
          <a:xfrm>
            <a:off x="549360" y="1600200"/>
            <a:ext cx="7696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0" name="Content Placeholder 3" descr="cytoskeletonn.jpg"/>
          <p:cNvPicPr/>
          <p:nvPr/>
        </p:nvPicPr>
        <p:blipFill>
          <a:blip r:embed="rId2"/>
          <a:srcRect l="-47577" t="0" r="-47577" b="0"/>
          <a:stretch/>
        </p:blipFill>
        <p:spPr>
          <a:xfrm>
            <a:off x="-1752480" y="16002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ytoskeleton.jpg"/>
          <p:cNvPicPr/>
          <p:nvPr/>
        </p:nvPicPr>
        <p:blipFill>
          <a:blip r:embed="rId3"/>
          <a:stretch/>
        </p:blipFill>
        <p:spPr>
          <a:xfrm>
            <a:off x="4699080" y="2335320"/>
            <a:ext cx="4444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lagella and Cil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agellum is a long tai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ilia are short hairs that cover the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56" name="Picture 3" descr="membrane_flow"/>
          <p:cNvPicPr/>
          <p:nvPr/>
        </p:nvPicPr>
        <p:blipFill>
          <a:blip r:embed="rId2"/>
          <a:stretch/>
        </p:blipFill>
        <p:spPr>
          <a:xfrm>
            <a:off x="2286000" y="380880"/>
            <a:ext cx="5257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ti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nd in cells of plants, algae and few oth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orage contain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typ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eukoplasts – contain starch or oil for the pla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hromoplasts – contain pigmen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st known is chloroplas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starch2"/>
          <p:cNvPicPr/>
          <p:nvPr/>
        </p:nvPicPr>
        <p:blipFill>
          <a:blip r:embed="rId3"/>
          <a:stretch/>
        </p:blipFill>
        <p:spPr>
          <a:xfrm>
            <a:off x="0" y="457200"/>
            <a:ext cx="879624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verts light energy into chemical energ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tball shaped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their own DNA (like the mitochondri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 struct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ylakoids – sa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ranum – stacks of thylakoi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oma – flui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lorophyll – green pigm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 – making sug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7" name="Content Placeholder 3" descr="cplastruct.gif"/>
          <p:cNvPicPr/>
          <p:nvPr/>
        </p:nvPicPr>
        <p:blipFill>
          <a:blip r:embed="rId2"/>
          <a:srcRect l="-15525" t="0" r="-1552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9" name="Content Placeholder 3" descr="chloroplast1.gif"/>
          <p:cNvPicPr/>
          <p:nvPr/>
        </p:nvPicPr>
        <p:blipFill>
          <a:blip r:embed="rId2"/>
          <a:srcRect l="-15808" t="0" r="-15808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ther people noticing cel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euwenhoek saw living organisms in 1674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ert Brown found the nucleus in 1833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toplasm – the “stuff”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1" name="Content Placeholder 3" descr="biol_01_img0077.jpg"/>
          <p:cNvPicPr/>
          <p:nvPr/>
        </p:nvPicPr>
        <p:blipFill>
          <a:blip r:embed="rId2"/>
          <a:srcRect l="-6132" t="0" r="-6132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ucleu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trol cente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NA replication and RNA transcrip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ar Envelope is a double membrane that surrounds the nucle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ar pores or opening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romatin material – DNA and other protei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olus – center part of nucleu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ucleu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5" name="Content Placeholder 3" descr="cell127.gif"/>
          <p:cNvPicPr/>
          <p:nvPr/>
        </p:nvPicPr>
        <p:blipFill>
          <a:blip r:embed="rId2"/>
          <a:srcRect l="0" t="-271" r="0" b="-2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acuo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mbrane-bound sa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: stora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st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inocyt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ntral vacuole in pla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Typ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crofilaments – support network inside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rmediate filaments – streng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crotubules – internal framework for transport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Theo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cell is the basic unit of lif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s perform all the functions of living thing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s come from pre-existing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vels of Cellular Organiz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nicellular – one – cell organis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lonial organism – a collection of similar cells living together. 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lti-cellul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ssu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ga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gan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Jo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bsorb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ges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cre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ges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ynthe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spi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Cell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0" name="Content Placeholder 3" descr="structure_animal_ce_c_la_784.jpg"/>
          <p:cNvPicPr/>
          <p:nvPr/>
        </p:nvPicPr>
        <p:blipFill>
          <a:blip r:embed="rId2"/>
          <a:srcRect l="-18797" t="0" r="-18797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nt Cell Anatom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2" name="Content Placeholder 3" descr="anatomy - 1.gif"/>
          <p:cNvPicPr/>
          <p:nvPr/>
        </p:nvPicPr>
        <p:blipFill>
          <a:blip r:embed="rId2"/>
          <a:srcRect l="-26457" t="0" r="-26457" b="0"/>
          <a:stretch/>
        </p:blipFill>
        <p:spPr>
          <a:xfrm>
            <a:off x="-415800" y="1417680"/>
            <a:ext cx="9559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9:50:23Z</dcterms:created>
  <dc:creator>Jason Cobb</dc:creator>
  <dc:description/>
  <dc:language>en-US</dc:language>
  <cp:lastModifiedBy>Jason Cobb</cp:lastModifiedBy>
  <dcterms:modified xsi:type="dcterms:W3CDTF">2011-10-20T00:03:27Z</dcterms:modified>
  <cp:revision>26</cp:revision>
  <dc:subject/>
  <dc:title>Chapter 3</dc:title>
</cp:coreProperties>
</file>